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0EF-2DD0-4918-B471-D64CAA3E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AF3-7400-46F9-863B-893C398C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C00-2F2F-445E-8A78-398732F0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C5E-0964-48D8-9B87-7438C5D5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FED6-6F00-4EF7-B3A2-CD50971A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3D9E-23C2-40E0-A30A-217D8921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4C7D-5A48-48BC-845F-C5A0E93F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6A0D-29EB-4EA4-90FE-DDC5168E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57CC-94A6-499E-BC34-BCC2ED41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125C-4C8D-444F-B71E-6485AD0B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E66D-2C93-48F3-B1B1-14E13578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772-0D64-4A26-81E1-3246FE6A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A60F-5193-44E7-B6A9-181FB1B8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9329-8E1E-4C42-BD92-FFA5B603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4198-D8A8-469C-A30D-747E3967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8DAB-DA67-463A-A807-D7159C37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3B3A-CF1F-4BE0-8A0B-D5CBDFC5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27B-A092-4FF5-AA13-0F66F942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237-9463-4DF4-B600-D749DFB5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82C-2C35-46FC-96C0-436C52D0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E84-3FE5-4386-B6AE-B30EFDD8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2B5-DA36-4FF9-BA4D-701E6B0E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683-9CDB-40E1-92B8-56A9CDE8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F77-1ED9-4823-9112-2D058AAB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42D8-71D8-492D-88E8-5ED7CBED7CB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CCB5-FFF0-4EB8-9E68-06C2E7FC8A3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4c2b"/>
                </a:solidFill>
                <a:latin typeface="Times New Roman"/>
              </a:rPr>
              <a:t>The Imperfect Tense:</a:t>
            </a:r>
            <a:br>
              <a:rPr sz="6600"/>
            </a:br>
            <a:r>
              <a:rPr b="0" lang="en-US" sz="6600" spc="-1" strike="noStrike">
                <a:solidFill>
                  <a:srgbClr val="004c2b"/>
                </a:solidFill>
                <a:latin typeface="Times New Roman"/>
              </a:rPr>
              <a:t>Regular-Irregular Verbs</a:t>
            </a:r>
            <a:endParaRPr b="0" lang="en-US" sz="6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Page 63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Avancemos 3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Here are all the forms of -ar verbs in the imperfect.  Notice the accent mark on the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nosotros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form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3352680" y="5410080"/>
            <a:ext cx="4114800" cy="0"/>
          </a:xfrm>
          <a:prstGeom prst="line">
            <a:avLst/>
          </a:prstGeom>
          <a:ln w="7632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CAMINAR (to walk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b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16765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57913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426708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Line 8"/>
          <p:cNvSpPr/>
          <p:nvPr/>
        </p:nvSpPr>
        <p:spPr>
          <a:xfrm flipH="1">
            <a:off x="7238520" y="1523880"/>
            <a:ext cx="68580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Since the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and the         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Ud./él/ella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forms are the same, we often use the subject pronouns to avoid confusion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62120" y="457200"/>
            <a:ext cx="314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45560" y="2232000"/>
            <a:ext cx="753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Let’s do a few more verbs.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2209680" y="3962520"/>
            <a:ext cx="556272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PATINAR (to skate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b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16765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57913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426708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H="1">
            <a:off x="7086240" y="1600200"/>
            <a:ext cx="68580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USAR (to use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b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6765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57913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426708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Line 8"/>
          <p:cNvSpPr/>
          <p:nvPr/>
        </p:nvSpPr>
        <p:spPr>
          <a:xfrm flipH="1">
            <a:off x="6476760" y="1523880"/>
            <a:ext cx="68580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JUGAR (to play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b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6765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57913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426708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6705360" y="1523880"/>
            <a:ext cx="68580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Now we will learn the -er/-ir verb endings in the imperfect tense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2971800" y="4495680"/>
            <a:ext cx="396252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COMER (to eat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   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752480" y="449568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5791320" y="441972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34340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VIVIR (to live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19360" y="205740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   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1752480" y="426708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5791320" y="42670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434340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Preterite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You have already learned to talk about the past using the preterite tense for actions that began and ended at a definite time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Line 4"/>
          <p:cNvSpPr/>
          <p:nvPr/>
        </p:nvSpPr>
        <p:spPr>
          <a:xfrm>
            <a:off x="3352680" y="5562720"/>
            <a:ext cx="426744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Times New Roman"/>
              </a:rPr>
              <a:t>The Imperfect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There are three irregular verbs in the imperfect.  The verbs IR, SER, and VER.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514600" y="5105520"/>
            <a:ext cx="4876920" cy="0"/>
          </a:xfrm>
          <a:prstGeom prst="line">
            <a:avLst/>
          </a:prstGeom>
          <a:ln cap="sq" w="57240">
            <a:solidFill>
              <a:srgbClr val="4282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Times New Roman"/>
              </a:rPr>
              <a:t>IR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iba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iba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iba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íbamo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ibai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iba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4114800" y="1371600"/>
            <a:ext cx="0" cy="5029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 flipH="1">
            <a:off x="5029200" y="1523880"/>
            <a:ext cx="38088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Times New Roman"/>
              </a:rPr>
              <a:t>SER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era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era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era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éramo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erai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era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4114800" y="1371600"/>
            <a:ext cx="0" cy="5029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 flipH="1">
            <a:off x="5029200" y="1523880"/>
            <a:ext cx="38088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Times New Roman"/>
              </a:rPr>
              <a:t>VER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veía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veía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veía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veíamo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veíai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veía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114800" y="1371600"/>
            <a:ext cx="0" cy="5029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 flipH="1">
            <a:off x="5486400" y="1523880"/>
            <a:ext cx="38088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 flipH="1">
            <a:off x="1523520" y="1676520"/>
            <a:ext cx="38124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H="1">
            <a:off x="5562720" y="5105520"/>
            <a:ext cx="38088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 flipH="1">
            <a:off x="5486400" y="3352680"/>
            <a:ext cx="38088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H="1">
            <a:off x="1523520" y="5105520"/>
            <a:ext cx="38124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Line 11"/>
          <p:cNvSpPr/>
          <p:nvPr/>
        </p:nvSpPr>
        <p:spPr>
          <a:xfrm flipH="1">
            <a:off x="1523520" y="3352680"/>
            <a:ext cx="38124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Times New Roman"/>
              </a:rPr>
              <a:t>The Imperfect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imperfect form of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hay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is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había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(there was/were, there used to be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Generalmente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, no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había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muchos participantes en el campeonato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2514600" y="5105520"/>
            <a:ext cx="4876920" cy="0"/>
          </a:xfrm>
          <a:prstGeom prst="line">
            <a:avLst/>
          </a:prstGeom>
          <a:ln cap="sq" w="57240">
            <a:solidFill>
              <a:srgbClr val="4282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Preterite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na 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antó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en la fiesta anoche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Ana 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sang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 at the party last night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Completed past action.)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The imperfect tense is another way to talk about the past.  We use it to describe actions without any indication of their beginning or end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3581280" y="5867280"/>
            <a:ext cx="373392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na 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antaba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Ana 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was singing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No indication of beginning or end.)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We use the imperfect to talk about actions that happened repeatedly in the past.  In English we often say      “used to” or “would” to express this idea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562720" y="5486400"/>
            <a:ext cx="251460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Generalmente 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aminaban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mucho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Generally 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they would walk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 a lot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Jugaban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con otros niños de la familia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They used to play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 with other children in the family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Expressions such as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generalmente, a menudo, muchas veces, todos los días, siempre,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nunca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can cue us to use the imperfect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6T21:49:25Z</dcterms:created>
  <dc:creator>NIHS</dc:creator>
  <dc:description/>
  <dc:language>en-US</dc:language>
  <cp:lastModifiedBy>Suzanne</cp:lastModifiedBy>
  <dcterms:modified xsi:type="dcterms:W3CDTF">2009-09-07T19:58:45Z</dcterms:modified>
  <cp:revision>8</cp:revision>
  <dc:subject/>
  <dc:title>No Slide Title</dc:title>
</cp:coreProperties>
</file>